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0D649-D155-49BE-BF5E-69AD31AFA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563CD-E483-469D-A756-369DFEE6A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F4455-1DF2-4025-B877-D03687307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2B4B1-A555-42A7-8EC2-091EECE75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D9B71F-E7B2-469A-863B-B6D5319E0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A7726F-4078-4847-B938-7034567FD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ACDB1E-C215-45CA-A7D7-D29D6CCD3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6892A2-07FD-40DF-90C8-2372EB671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03643E-6D52-40A3-981E-DA001AFCC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B56350-ECE5-4945-A6CB-E2458C608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765903-85AC-4D71-9DF2-BE52FBD72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6911A-2197-4FDF-89CC-94C709CDF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389AE9-BAA9-4BE5-8F75-2F729D680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73C1CA-488B-4952-BC5C-671E1FF4D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8E77AE-194E-4D75-B805-20E9F079E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73DD1E-1DE5-47B5-B6FE-1B56C0AB2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32CE27-31E9-4125-9361-0864F64D0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6B5BD-9F99-4BD9-9417-DBCF95D2D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4B41C-8616-405C-AD6F-E0DEB7B72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21C07-6FC7-458D-90A0-5B859177D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07C80-E512-4320-B36C-C70577702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49125-9252-4255-8BC4-24AD02908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765A7-E9A5-4BC5-A6D7-5EC51FD84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7CF9B-891C-4B58-AB95-758516F7A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063D3-B17E-4CBC-AE5B-6062E7C508D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>
              <a:gd name="textAreaLeft" fmla="*/ 0 w 1440"/>
              <a:gd name="textAreaRight" fmla="*/ 1800 w 1440"/>
              <a:gd name="textAreaTop" fmla="*/ 0 h 3035160"/>
              <a:gd name="textAreaBottom" fmla="*/ 3035520 h 3035160"/>
            </a:gdLst>
            <a:ahLst/>
            <a:rect l="textAreaLeft" t="textAreaTop" r="textAreaRight" b="textAreaBottom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CEA98-A2F4-403E-8F86-F2DB19D4C3F6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Виды музыкальной деятельности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73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оставитель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оснина А. Н.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музыкальный руководитель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5" descr="s1200?webp=false"/>
          <p:cNvPicPr/>
          <p:nvPr/>
        </p:nvPicPr>
        <p:blipFill>
          <a:blip r:embed="rId1"/>
          <a:srcRect l="15334" t="0" r="8667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5" descr="f0b3aeb1b8b7e510ec0cdddaa6d32a7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5" descr="maxresdefault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4"/>
          <p:cNvSpPr/>
          <p:nvPr/>
        </p:nvSpPr>
        <p:spPr>
          <a:xfrm>
            <a:off x="212760" y="1279800"/>
            <a:ext cx="8717040" cy="30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Музыка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– это средство эстетического воспитания ребёнка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так как оно направлено на развитие способности детей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оспринимать, чувствовать и понимать прекрасное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замечать хорошее и плохое, творчески и самостоятельно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действовать, приобщаясь тем самым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 различным видам художественной деятельности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Виды музыкальной деятельности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лушани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аспевание, пени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узыкально-ритмические движе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гра на детских музыкальных инструментах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гр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елаксац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4" descr="foto20kind-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9" descr="img1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5" descr="s1200?webp=false"/>
          <p:cNvPicPr/>
          <p:nvPr/>
        </p:nvPicPr>
        <p:blipFill>
          <a:blip r:embed="rId1"/>
          <a:stretch/>
        </p:blipFill>
        <p:spPr>
          <a:xfrm>
            <a:off x="1752480" y="314280"/>
            <a:ext cx="4910400" cy="654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5" descr="1015626819"/>
          <p:cNvPicPr/>
          <p:nvPr/>
        </p:nvPicPr>
        <p:blipFill>
          <a:blip r:embed="rId1"/>
          <a:stretch/>
        </p:blipFill>
        <p:spPr>
          <a:xfrm>
            <a:off x="0" y="0"/>
            <a:ext cx="9144000" cy="681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4"/>
          <p:cNvSpPr/>
          <p:nvPr/>
        </p:nvSpPr>
        <p:spPr>
          <a:xfrm>
            <a:off x="1066680" y="117720"/>
            <a:ext cx="723924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Речевая игра «Весенняя телеграмма»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(выполняют хлопки в ладоши в ритм стихам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Дятел сел на толстый сук 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Тук да тук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сем друзьям своим на юг 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Тук да тук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Телеграммы срочно шлёт 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Тук да тук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Что весна уже идёт 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Тук да тук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Что растаял снег вокруг 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Тук да тук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Что подснежники цветут 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Тук да тук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AutoShape 7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AutoShape 9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Picture 11" descr="scale_120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4"/>
          <p:cNvSpPr/>
          <p:nvPr/>
        </p:nvSpPr>
        <p:spPr>
          <a:xfrm>
            <a:off x="641160" y="1006200"/>
            <a:ext cx="78631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идит кукушка на суку и слышится в ответ: «Ку-ку»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А вот котеночек в углу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Мяукает он так: «Мяу! Мяу!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Щенок прогавкает в ответ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Услышим вот что мы вослед: «Гав! Гав!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орова тоже не смолчит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А вслед нам громко замычит: «Му-у!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А петушок, встретив зарю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ам пропоет: «Ку-ка-ре-ку!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аровоз, набравши ход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Тоже весело поет: «У-у-у!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Если праздник –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Детвора весело кричит: «Ура! Ура!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4-24T17:47:07Z</dcterms:created>
  <dc:creator>home</dc:creator>
  <dc:description/>
  <dc:language>en-US</dc:language>
  <cp:lastModifiedBy>home</cp:lastModifiedBy>
  <dcterms:modified xsi:type="dcterms:W3CDTF">2020-11-23T07:17:21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